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AF8-D5C1-46CB-BF8A-675554C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206-188B-4E71-A05A-59EC1E13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23E-9F00-43D0-BFCB-34A98535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19B-04D5-4B60-95E1-E19FD4B6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57F-D282-4F4D-9A45-A10A2EF7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C09-5F62-4AF4-A834-2CC3339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707-100E-4CFE-9597-8C4253B7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A82-080C-4367-B239-D3620622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241-E00F-4242-80F7-E31DB1E2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AC-1983-4231-B590-BFC5249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3AF-D08B-4812-A718-B16297B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3B8-C6E2-4797-9CD9-ABF3374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B538-D924-4F47-9994-3BEEB3FD23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nidadanimal.info/inmun/images/fig2.gif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4143240"/>
            <a:ext cx="5572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e701"/>
                </a:solidFill>
                <a:latin typeface="Arial"/>
              </a:rPr>
              <a:t>THE IMMUNE </a:t>
            </a:r>
            <a:br>
              <a:rPr sz="6000"/>
            </a:br>
            <a:r>
              <a:rPr b="0" lang="en-GB" sz="6000" spc="-1" strike="noStrike">
                <a:solidFill>
                  <a:srgbClr val="ffe701"/>
                </a:solidFill>
                <a:latin typeface="Arial"/>
              </a:rPr>
              <a:t>SYSTEM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5" descr="White-Blood-Cells"/>
          <p:cNvPicPr/>
          <p:nvPr/>
        </p:nvPicPr>
        <p:blipFill>
          <a:blip r:embed="rId1"/>
          <a:stretch/>
        </p:blipFill>
        <p:spPr>
          <a:xfrm>
            <a:off x="1000080" y="4429080"/>
            <a:ext cx="2889360" cy="205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wbccomp"/>
          <p:cNvPicPr/>
          <p:nvPr/>
        </p:nvPicPr>
        <p:blipFill>
          <a:blip r:embed="rId2"/>
          <a:stretch/>
        </p:blipFill>
        <p:spPr>
          <a:xfrm>
            <a:off x="5121360" y="189000"/>
            <a:ext cx="3651120" cy="273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mune"/>
          <p:cNvPicPr/>
          <p:nvPr/>
        </p:nvPicPr>
        <p:blipFill>
          <a:blip r:embed="rId3"/>
          <a:stretch/>
        </p:blipFill>
        <p:spPr>
          <a:xfrm>
            <a:off x="1000080" y="214200"/>
            <a:ext cx="2541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cells are under attack they rele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is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amine plus chemicals from pathogens mea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utrophi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attracted to the site of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ogens are attached to antibodies and neutrophils hav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ntibody recepto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odcytosis of neutrophil membran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hagocytic vacu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ysosomes attach to phagocytic vacuol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athogen digested by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 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-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one marrow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en concentrate in lymph nodes and 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-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y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and T cells mature then circulate in the blood and lym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rculation ensures they come into contact with pathogens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image40f"/>
          <p:cNvPicPr/>
          <p:nvPr/>
        </p:nvPicPr>
        <p:blipFill>
          <a:blip r:embed="rId1"/>
          <a:stretch/>
        </p:blipFill>
        <p:spPr>
          <a:xfrm>
            <a:off x="6300720" y="176040"/>
            <a:ext cx="2519280" cy="19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10 million different B-lymphocytes, each of which make a different anti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uge variety is caused by genes coding for antibodies changing slightly during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a small group of clones of each type of B-lymphocy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the clone stage antibodies do not leave the B-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ntibodies are embedded in th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sma membrane of the cell and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ed antibody recep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the receptors in the membrane recognise an antigen on the surface of the pathogen the B-cell divides rapi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ntigens are presented to the B-cells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acroph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fig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2428920"/>
            <a:ext cx="13683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Picture 6" descr="img_3-2-5"/>
          <p:cNvPicPr/>
          <p:nvPr/>
        </p:nvPicPr>
        <p:blipFill>
          <a:blip r:embed="rId1"/>
          <a:stretch/>
        </p:blipFill>
        <p:spPr>
          <a:xfrm>
            <a:off x="2340000" y="1413000"/>
            <a:ext cx="4932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LASMA CELL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 lots of antibodi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/se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bodies travel to the blood, lymph, lining of gut and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umber of plasma cells goes down after a few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stay in the blood longer but eventually their numbers go down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ory cells divide rapidly as soon as the antigen is reint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many more memory cells than there were clon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pathogen/infection infects again it is destroyed before any symptoms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Different Immunoglobuli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T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ure T-cells have T cell receptors which have a very similar structure to antibodies and are specific to 1 anti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activated when the receptor comes into contact with the Ag with another host cell (e.g. on a macrophage membrane or an invaded body c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t_lymphocyte2"/>
          <p:cNvPicPr/>
          <p:nvPr/>
        </p:nvPicPr>
        <p:blipFill>
          <a:blip r:embed="rId1"/>
          <a:stretch/>
        </p:blipFill>
        <p:spPr>
          <a:xfrm>
            <a:off x="468360" y="18900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-lymph-dk2"/>
          <p:cNvPicPr/>
          <p:nvPr/>
        </p:nvPicPr>
        <p:blipFill>
          <a:blip r:embed="rId2"/>
          <a:stretch/>
        </p:blipFill>
        <p:spPr>
          <a:xfrm>
            <a:off x="7093080" y="260280"/>
            <a:ext cx="18046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T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activation the cell divides to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-helper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secrete CYTOK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lp B cells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imulate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ytotoxic T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killer T cel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ill body cells displaying ant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ain i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_lymphocyte2"/>
          <p:cNvPicPr/>
          <p:nvPr/>
        </p:nvPicPr>
        <p:blipFill>
          <a:blip r:embed="rId1"/>
          <a:stretch/>
        </p:blipFill>
        <p:spPr>
          <a:xfrm>
            <a:off x="468360" y="18900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-lymph-dk2"/>
          <p:cNvPicPr/>
          <p:nvPr/>
        </p:nvPicPr>
        <p:blipFill>
          <a:blip r:embed="rId2"/>
          <a:stretch/>
        </p:blipFill>
        <p:spPr>
          <a:xfrm>
            <a:off x="7093080" y="260280"/>
            <a:ext cx="18046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Picture 4" descr="Life7e-Fig-18-02-1%20blood%20cells%20and%20their%20stem%20cells%20p1"/>
          <p:cNvPicPr/>
          <p:nvPr/>
        </p:nvPicPr>
        <p:blipFill>
          <a:blip r:embed="rId1"/>
          <a:stretch/>
        </p:blipFill>
        <p:spPr>
          <a:xfrm>
            <a:off x="684360" y="1238400"/>
            <a:ext cx="7416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8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ct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 are activated  by antigens on the surface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Natural active immunity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acquired due to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rtificial active immun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s time for enough B and T cells to be produced to mount an effective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8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and T cells are not activated and plasma cells have not produced anti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gen doesn’t have to be encountered for the body to make the anti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appear immediately in blood but protection is only tempo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atural 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mother’s antibodies pass across the placenta to the foetus and remain for several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strum (the first breast milk) contains lots of IgA which remain on surface of the baby’s gut wall and pass into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Immunity: Active and Passive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reparation containing antige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le live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enuated (harmless)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xoid (harmless form of tox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ation of harmless 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jection into vein or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hy aren’t they always effec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infections persist within the body for a long time so the immune system has time to develop an effective response, vaccinations from dead m-os do not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 effective vaccines need booster injections to stimulate secondary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hy aren’t they always effec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eople don’t respond well/at all to 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ective immu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nutrition particularly pro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 spots containing transparent fluid all over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ots fill with 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yelids swell and become glued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-30%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vivors often left blind and disfigured with sca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Cells of the Immune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agocytes - Neutroph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ed by WHO in 19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imed to rid world of smallpox by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olved vaccination and surveil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 80% of populations at risk of the disease were vacc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any reported case everyone in the household and 30 surrounding households vaccinated –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ING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t case of smallpox reported in Somalia in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rld declared free of smallpox in 19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 – why was it success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riola virus stable -&gt; cheap as everyone used same vac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e made from harmless strain of similar virus (vaccin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e could be used at high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o identify infecte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pox doesn’t lie dormant i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eas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d by an airborne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eading cause of death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rash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have fatal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ive immunity from mothers in infants under 8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w quite a rare disease in developed countries due to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vcbbcq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25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MeaslesRashCDCWeb"/>
          <p:cNvPicPr/>
          <p:nvPr/>
        </p:nvPicPr>
        <p:blipFill>
          <a:blip r:embed="rId2"/>
          <a:stretch/>
        </p:blipFill>
        <p:spPr>
          <a:xfrm>
            <a:off x="0" y="0"/>
            <a:ext cx="32036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eas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mitted easily in overcrowded, insanitar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ly affects malnourished infants with vitamin A defici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ponsible for many cases of childhood blindness and can cause severe brai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d immunity of 93-95% needed to prevent transmission with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vcbbcq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256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easlesRashCDCWeb"/>
          <p:cNvPicPr/>
          <p:nvPr/>
        </p:nvPicPr>
        <p:blipFill>
          <a:blip r:embed="rId2"/>
          <a:stretch/>
        </p:blipFill>
        <p:spPr>
          <a:xfrm>
            <a:off x="0" y="0"/>
            <a:ext cx="32036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ller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immune system responds to harmless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Allerge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antigenic substances which do no real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ergens include house dust, animal skin, pollen, house dust mite and its fa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allergy-image"/>
          <p:cNvPicPr/>
          <p:nvPr/>
        </p:nvPicPr>
        <p:blipFill>
          <a:blip r:embed="rId1"/>
          <a:stretch/>
        </p:blipFill>
        <p:spPr>
          <a:xfrm>
            <a:off x="0" y="0"/>
            <a:ext cx="1531800" cy="227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Allergy-Triggers-copy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ller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amine causes blood vessels to widen and become lea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luid and white blood cells leav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rea of leakage becomes hot, red and infl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allergy-image"/>
          <p:cNvPicPr/>
          <p:nvPr/>
        </p:nvPicPr>
        <p:blipFill>
          <a:blip r:embed="rId1"/>
          <a:stretch/>
        </p:blipFill>
        <p:spPr>
          <a:xfrm>
            <a:off x="0" y="0"/>
            <a:ext cx="1531800" cy="227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Allergy-Triggers-copy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d throughout life by the bone m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avengers – remove dead cells and micro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Phagocytes and Their Relat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Neutrophi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0% of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rol tissues’ as they squeeze out of th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 numbers are released dur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lived – die after diges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neutrophils make up a large proportion of pu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normvtox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r than neutroph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in the organs, not the b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de in bone marrow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nocyt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called macrophages once they reach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ng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itia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mmune responses as they display antigens from the pathogens to the lymphoc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7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Picture 4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gpresent"/>
          <p:cNvPicPr/>
          <p:nvPr/>
        </p:nvPicPr>
        <p:blipFill>
          <a:blip r:embed="rId2"/>
          <a:stretch/>
        </p:blipFill>
        <p:spPr>
          <a:xfrm>
            <a:off x="2124000" y="1969920"/>
            <a:ext cx="4854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16-08a_phagocytosis_1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John AJ O'Connor</cp:lastModifiedBy>
  <dcterms:modified xsi:type="dcterms:W3CDTF">2010-01-22T04:02:14Z</dcterms:modified>
  <cp:revision>41</cp:revision>
  <dc:subject/>
  <dc:title>THE IMMUNE SYSTEM</dc:title>
</cp:coreProperties>
</file>